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566D-9183-41EF-825D-51A54C1A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0D55-E899-4011-9C51-3FCF92D2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C873-3485-4E6F-8AD5-0BA150CB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6BB2-DC5D-46B0-9654-D9FD2ED5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4AD7-D9F7-4E36-8196-A56DB51B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E125-1657-48C4-B026-25542EC1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7C16-9556-4755-BE7F-5E7B886F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D306-8C49-4B7D-A815-05B72546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783A-B62C-4DDE-933D-E0F8452E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9D38-AA5F-43AE-9170-215FE05E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A79E-6BC3-423B-8E4D-E689C0F0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012D-CCE5-4609-8745-541492F5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913A-7A76-4911-9326-05886DA7D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jamlegends.com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am Leg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y Cody R. Critch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 some my prediction was right for some of my tester but for others it was w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 it really doesn’t matter what hand you use its what ever is comfor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d people play better with their left or their right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ypothes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 predict that they will play better with their left hand. Because they will not click on some thing with their wri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teri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ou ne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puter( with Inter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ced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et player to go 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jamlegends.com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n have them read dir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ext tell then to click play if they are re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rticipa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unter Hewit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ogan J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ash Farn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ustin My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Jed Dierk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ylee A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inley R. Farn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risty Riff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ong And Difficult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Name of the song that I chose is called; On The R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difficulty is set on normal 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ossible cause of Err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l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ariab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dependent Vari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aying On The Ro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n Normal t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r on easy and just hitting the butt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04:45Z</dcterms:created>
  <dc:creator>USD376</dc:creator>
  <dc:description/>
  <dc:language>en-US</dc:language>
  <cp:lastModifiedBy>USD376</cp:lastModifiedBy>
  <dcterms:modified xsi:type="dcterms:W3CDTF">2010-03-01T20:14:03Z</dcterms:modified>
  <cp:revision>7</cp:revision>
  <dc:subject/>
  <dc:title>  Jam Legends</dc:title>
</cp:coreProperties>
</file>